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FA9-AA63-4D1F-8379-84C918CE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20A-A655-4CFF-B781-CA799CCE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773-DF9D-437C-843F-D7D939EF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DC2-8EFF-4186-B06A-691689F0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CA2E-C535-4D49-99F7-3B8C9207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472A-52C9-418D-B0DC-F1F95FAC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0BFA-0812-4FAE-8DFA-FADEF38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D59D-4986-401F-A827-A1ABC08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B1F-E061-4D31-A15F-79E1C94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C63-432F-4616-A858-3D91C95B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3003-82BC-45EA-B550-A900D7D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951-0E5A-46F0-9C55-095C5A1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6E6B-3F94-411D-B7B6-50C83E57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462E-B499-4EAF-8691-38041DC6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7603-1AD7-4632-91B6-1A0DE3AA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FDD-E538-45EE-8C2E-166CB168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EFC9-DDD2-4CCA-9E18-C65F2F0D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914-9CFB-487C-8D8C-032040B7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2E4-0DFE-4EF7-ABEC-D4DDF25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65A-A08C-4140-91E0-E70DAD20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37C-50B2-4047-816B-075EC59E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5BF-486C-4BB4-92C5-16A8E85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1C2-AAB5-4BD4-8D89-B225C88E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4E6-58FC-486D-87F2-3232CFD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C870-71DC-46CE-8354-26D90C8F710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4D36-DE93-41D0-86B5-1A036E5AAF2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ctor Campos, Presiden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ptions Software Consulting</a:t>
            </a:r>
            <a:br>
              <a:rPr sz="4000"/>
            </a:b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ttp://www.options-sc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The Business Object Specialis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nefits of using Business Obje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ed Rea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L Distilled by Martin Fow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ML Language User Guide by Booch, Jacobson and Rumba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bject-Oriented Thought Process by Matt Weisfe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 Patterns by Gamma, Helm, Johnson and Vlis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ed Websi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intelligententerprise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objectsbydesign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hillside.net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joopmag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ustry 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xPro and Visual FoxP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B and VBScript (AS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QL Server 6.5/7.0/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B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SQ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us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ty frame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have built your own framewor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are using Business Objec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udience Surv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 Business Obje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Object’s Conceptual Meta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an effective business object in Visual FoxP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efits of using Business 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ot’s more if time all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siness Objec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iacomdev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238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 Business Objec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usiness object is the software implementation of an autonomous business concept or business process.  It consists of all the software artifacts necessary to represent, implement, and deploy a given business concept as an autonomous, reusable element of a larger distributed information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siness Object’s Conceptual Meta-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BizObjMetaModel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629400" cy="3878280"/>
          </a:xfrm>
          <a:prstGeom prst="rect">
            <a:avLst/>
          </a:prstGeom>
          <a:ln w="0">
            <a:noFill/>
          </a:ln>
        </p:spPr>
      </p:pic>
      <p:pic>
        <p:nvPicPr>
          <p:cNvPr id="133" name="TABLE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16956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llustrating the Façade Patt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New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59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ilding an effective Business Obje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le and Main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us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apsulates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FP’s Data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the built-in data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performance while loading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-Thread functionality is built-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7:46:51Z</dcterms:created>
  <dc:creator>Victor Campos</dc:creator>
  <dc:description/>
  <dc:language>en-US</dc:language>
  <cp:lastModifiedBy>Victor Campos</cp:lastModifiedBy>
  <dcterms:modified xsi:type="dcterms:W3CDTF">2002-01-08T06:05:59Z</dcterms:modified>
  <cp:revision>36</cp:revision>
  <dc:subject/>
  <dc:title>Victor Campos, President Options Software Consulting http://www.options-sc.com</dc:title>
</cp:coreProperties>
</file>